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AD1-7495-448E-97B8-D954C27D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FEF-D02D-42A1-B790-8E5A15D8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949-C538-4FC0-97A7-75E38E8E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78F-D180-4E60-A625-4D027DEE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AC65-779E-49A1-A34C-9E8FAC2A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3C19-A997-444D-9862-A44CCE93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CD0-B9DE-4BE2-8DC1-6A8812D6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72C-E634-4E45-9F64-DDF4B9A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0F33-D0CC-475E-8872-A3D4D73E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D877-4AEE-4EE3-A68D-B630651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D013-1C56-4FD4-A063-1C75C05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569-E321-40D2-AAA2-F6349275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4BF7-1155-4888-989F-DA9E5FA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D7B4-E48E-4889-A7AB-4DED332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5FE9-45A3-48A0-9EB2-0B71F43C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C669-D90D-4F78-BDEB-1274D31A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253D-A1E2-40E8-B30F-C8BFED47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E40-96DE-4143-A1AD-76241828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E4D-F775-4447-94B9-5CB8582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E67-BF97-445B-805F-E4F7A274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B1C-06C7-4E75-8E64-9884A626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BF6-BD84-4E7D-8180-52A391D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E4F-29FF-4CC4-B8A3-D23C9F4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D63-9B0F-45B1-9E1C-5DE3ED46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7143-DB45-45B4-B348-FD830850B1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CD22-BA0D-4D52-94F3-21704DBDCF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第十三章  货币一体化理论与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ories of Currency Are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 European Monetary Inte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最适货币区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蒙代尔与最适货币区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两种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一货币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多种货币并存并通过固定汇率机制连接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两种货币区的调节机制比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单一货币区内外均衡调节机制较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区内要素自由流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对外实行浮动汇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治变革、主权让渡与政治同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传统分析法（最适货币区条件论）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最适货币区条件主要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生产要素的流动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开放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多样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相近的通货膨胀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策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成本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收益分析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加入货币区，有成本，也有收益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消除投机资本区内流动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节约外汇储备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推动经济政策一体化和经济一体化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政治收益：提高国际协议地位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丧失货币政策自主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财政政策自主性受到限制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增大失业增加的可能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打破原有的国内均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共同货币政策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共同货币单位与货币篮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共同货币政策条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单一货币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分析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欧洲货币体系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主要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单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浮动的汇率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合作基金和信贷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成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汇率最稳定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加强成员国在国际金融体系中地位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共同发展与政策协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为单一货币奠定基础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欧洲货币联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欧洲货币联盟的产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马斯特里赫特条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单一货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欧洲单一货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欧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1:12:03Z</dcterms:created>
  <dc:creator>MS User</dc:creator>
  <dc:description/>
  <dc:language>en-US</dc:language>
  <cp:lastModifiedBy>Dell</cp:lastModifiedBy>
  <dcterms:modified xsi:type="dcterms:W3CDTF">2021-08-23T22:50:40Z</dcterms:modified>
  <cp:revision>13</cp:revision>
  <dc:subject/>
  <dc:title>第八章  货币一体化理论与欧洲货币一体化</dc:title>
</cp:coreProperties>
</file>